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Click to move the slide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42EB-F050-4AD4-A873-EFD6F2BBF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533A-6343-4882-BD03-A6C456019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0FCD-D62F-4631-909C-EA5F27E02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173C-B7A0-4108-9492-C198F898A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E0DB-F53D-4B29-8D47-E52DEE3B6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AE31-4987-4F4F-8FA9-0638B2C3B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28B5-94DF-40E8-B8C3-23B5413C3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F421-1E54-4A3E-93B4-F9CEC86CC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6DB3-31BA-46B3-A6A1-F460F15AF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1575-498A-42C3-B236-9C8FBAE21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65C1-7D87-499E-AB6A-5A8401157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D355-F4E9-4AA5-A074-C86E849B4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F99F-D7A3-45BA-91D7-95F94EAD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0ADD-F9D8-4FC6-9381-E73C69FD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C8EC4-72BF-49C0-B8EA-61EC4E61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7A3AF-C956-4DE9-8F47-E7DA74C7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A9F81-1A58-4AF9-8A80-3A0D92EE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5FB6C-6DED-42FF-BEC9-1F142548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A96DE-A1D7-4146-9E2C-B28CED7C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63829-1E75-43A2-BE8E-C9CB2F77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16710-AC8B-422D-B541-3C0DB116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88481-5009-4692-83AF-D9DAF0C2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6FE82-A39B-4755-A95B-D24276FA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7FD-C7BF-466F-9C9D-A78D370D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6A4-93CC-41D9-AA4F-F0F08C88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E9B3-418C-4F65-9DAA-1981210A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9460-82EE-4F26-A7C7-DD978551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E151-2FF5-46BD-A374-BAED4F06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D639-8142-4D94-BF19-941FA17E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D84A-7EA4-4EA8-AB88-7ABE1974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0A8B-1522-4820-B418-90C77637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11A8-4AB2-4C8A-AD95-949ED1E6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E4D-EACE-4809-9816-3C09E308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0B40-7E24-433B-BA08-EE37E69E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D594-79A2-4BBA-A2F7-41A27685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4A58-1349-467A-83AC-1BD2DF5E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6612-340F-4234-8521-12BBCA4F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5BDC-2986-4EF3-8853-1BBA9ECB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2F29B-590A-4B1A-8AF0-5AF796A9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B69A9-3A2B-4305-92CA-ADCF07B2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F9A93-E4A5-4DA2-8132-EC1E9E57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3BFB9-FDF4-488F-81DB-1C6359B5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EBF9E-B95B-4A83-85C5-5AD4F0BA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EA4A-B4FB-466F-9253-6B42850A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6FFB9-E421-477A-AA05-7A6211E3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0D6D7-6383-4C43-906D-21E6B39B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262E1-44C3-4675-8FB5-970CCE61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F44B-D4D8-4DF3-8E0C-4EE1951E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0057-789B-47A3-9BC5-99D35282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9F18D-AC06-4562-9CB5-E1BA14E5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172BC-05D6-43E4-97E4-E3CC3675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FCC03-CC65-48D0-949F-03AC2CF5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7B27D-A6B8-4950-AE29-ABACA6C4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051EB-C4C7-4234-97F9-C3CC6D53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9DB-1267-43F9-8E51-F6AE7944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AB850-72A8-454D-AA0E-488389FF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9F20F-A7E9-48F7-A7F3-CA799404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B3F37-61DA-472B-8D7A-BD0A5A56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CE9DF-FCE5-41E6-AC7D-AC4FD319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CA243-AEAC-4A2D-B034-768F6B05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9210B-DC16-4F8B-BB66-16AE9717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899AE-4CEE-4ECB-94FB-97157454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9248D-3093-4074-9951-36CEB648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74817-D557-4BD1-AF5E-47FE4AB4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8633E-5C8E-4753-9989-7DB9A4E0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2324-D1B2-4321-99CF-567B499C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179BC-1CE6-4846-B861-3A014FC7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21014-5D59-4A60-B233-14407575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BB269-4CAB-414D-9FDE-565CED26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0D305-2998-4F92-B6AC-4FC23455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9E351-F6BC-4ABF-BC47-4958F945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C4B28-F6B9-4598-AD4F-F887410D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D7E6E-2993-470C-BF79-B3CA1E2B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B22AE-8CEA-42A2-B516-62FAD433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6954D-4BF7-4D33-A4BC-D2A6AD66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A7D2B-BFA2-4642-AED7-7A3666D9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C846-D92F-4043-B952-D480ABC8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6D50E-7AB5-4B89-B09B-0CAEC886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10350-036C-48E2-8696-8AFB43AF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3C4FC-BF7C-40A7-8A5A-9BF8953D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D1B0C-5447-418E-AD53-6D2F1DB6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3E7AC-1C95-4CCB-B9D1-C3BA869D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D1B6E-F740-48B9-B46A-DA5CDB70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3251C-4E4C-4516-948E-93109601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D8A26-438F-4B89-88A1-7E03771E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D07B8-D3B5-40C8-B960-9412855E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9AD5B-2C89-4C24-8844-4B096382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455-8AAB-434C-BE27-A7AB4DF3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12275-EBC3-4610-BD7F-1E366D19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3BB1A-C6DF-4188-BB7B-3C918C06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A45B8-5316-48B6-9460-927A6B13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0B9EA-6ECD-4715-B8A1-E81DEFE5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43F97-B1FE-40A8-9EE7-3C053BE1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F8E80-F622-4A74-8B0D-B744F7D7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F8EF9-7300-44BC-8EBB-C36F57C7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18264-8792-42FA-B9D3-9224F095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B1759-39D6-41D0-8AAD-4E535971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C6088-D921-4CE6-9A3D-59D79F6D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27E1-AE3A-4762-BBD5-DC5F0031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132CA-2289-48E2-9177-BC795CA7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90A90-1AB2-4386-91FE-B6C1381F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85833-FA92-4C96-9CE7-57B4F661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00DF7-138E-498C-9218-23134D41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D29F6-A80B-42E4-BF9A-4160FBBD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12461-0515-4B3E-9B4C-BA4963A1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2A3B3-0F62-4891-A2BF-E21F49A8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56490-C152-4AE0-8A97-4A4D051D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D5D69-E754-42B8-A53B-1FF001B0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B6BB6-E844-494D-98C1-3212A257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E00-A1CA-412B-AF3F-91117124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2193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1B388-13AC-42CA-9EB5-D6E44FC7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BA5B1-1B1B-4BEB-B726-549D302F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3890B-618E-4192-AFC3-FC45B475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83370-F42F-4C5B-84EA-72919C2B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676160" y="4481280"/>
            <a:ext cx="7467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4F1BF-5DF8-4996-A460-97A15C01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02600" y="233172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67616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502600" y="4481280"/>
            <a:ext cx="3643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65741-886A-4735-9DAF-84D99FA6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0120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726240" y="233172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67616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20120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726240" y="44812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CBAF4-B7A8-477A-BBFA-6B88399E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83911-5584-45C4-A032-D229B193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02042-76A8-4B01-A506-3D2A9BDF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A5A27-CE04-4146-8512-DA346F5E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Click to edit the title text format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2331720"/>
            <a:ext cx="746748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715E-9C09-49FF-A07C-6FAC467D2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5C84-B02F-4BA6-925C-3D1902343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459D-BB82-431A-B804-CEC0FBFF8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676160" y="2331720"/>
            <a:ext cx="7467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51BA-8B16-4110-8576-629071289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8DD6-A226-4B59-BFEC-B109C7D17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3AB9-90EF-42D6-A0A4-322414ED8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676160" y="2331720"/>
            <a:ext cx="74674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DD26-7105-4AE8-98D4-58C001C61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0356-46FC-42A2-A172-811DBCE01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40BC-88B1-4A42-AA47-E3FD77CC8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2.4: linear inequalities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X-intercept method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so that f(x)&lt;0.  X intercept becomes the turning point for th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1&gt;2x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&gt;3x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4" descr="basic graph"/>
          <p:cNvPicPr/>
          <p:nvPr/>
        </p:nvPicPr>
        <p:blipFill>
          <a:blip r:embed="rId1"/>
          <a:stretch/>
        </p:blipFill>
        <p:spPr>
          <a:xfrm>
            <a:off x="5867280" y="3505320"/>
            <a:ext cx="2719440" cy="2790720"/>
          </a:xfrm>
          <a:prstGeom prst="rect">
            <a:avLst/>
          </a:prstGeom>
          <a:ln w="0">
            <a:noFill/>
          </a:ln>
        </p:spPr>
      </p:pic>
      <p:sp>
        <p:nvSpPr>
          <p:cNvPr id="487" name="SMARTPenAnnotation68"/>
          <p:cNvSpPr/>
          <p:nvPr/>
        </p:nvSpPr>
        <p:spPr>
          <a:xfrm>
            <a:off x="1635120" y="4572000"/>
            <a:ext cx="19368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PenAnnotation69"/>
          <p:cNvSpPr/>
          <p:nvPr/>
        </p:nvSpPr>
        <p:spPr>
          <a:xfrm>
            <a:off x="1817640" y="4378320"/>
            <a:ext cx="15552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PenAnnotation70"/>
          <p:cNvSpPr/>
          <p:nvPr/>
        </p:nvSpPr>
        <p:spPr>
          <a:xfrm>
            <a:off x="2022480" y="4468680"/>
            <a:ext cx="11412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PenAnnotation71"/>
          <p:cNvSpPr/>
          <p:nvPr/>
        </p:nvSpPr>
        <p:spPr>
          <a:xfrm>
            <a:off x="1989000" y="4492800"/>
            <a:ext cx="160560" cy="285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PenAnnotation72"/>
          <p:cNvSpPr/>
          <p:nvPr/>
        </p:nvSpPr>
        <p:spPr>
          <a:xfrm>
            <a:off x="2193840" y="4537080"/>
            <a:ext cx="20664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PenAnnotation73"/>
          <p:cNvSpPr/>
          <p:nvPr/>
        </p:nvSpPr>
        <p:spPr>
          <a:xfrm>
            <a:off x="2332080" y="4422600"/>
            <a:ext cx="4608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PenAnnotation74"/>
          <p:cNvSpPr/>
          <p:nvPr/>
        </p:nvSpPr>
        <p:spPr>
          <a:xfrm>
            <a:off x="2470320" y="4422600"/>
            <a:ext cx="9360" cy="331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PenAnnotation75"/>
          <p:cNvSpPr/>
          <p:nvPr/>
        </p:nvSpPr>
        <p:spPr>
          <a:xfrm>
            <a:off x="2583000" y="4389480"/>
            <a:ext cx="13464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PenAnnotation76"/>
          <p:cNvSpPr/>
          <p:nvPr/>
        </p:nvSpPr>
        <p:spPr>
          <a:xfrm>
            <a:off x="2879640" y="4537080"/>
            <a:ext cx="195480" cy="12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PenAnnotation77"/>
          <p:cNvSpPr/>
          <p:nvPr/>
        </p:nvSpPr>
        <p:spPr>
          <a:xfrm>
            <a:off x="3191040" y="4400640"/>
            <a:ext cx="10152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PenAnnotation78"/>
          <p:cNvSpPr/>
          <p:nvPr/>
        </p:nvSpPr>
        <p:spPr>
          <a:xfrm>
            <a:off x="3394080" y="4446720"/>
            <a:ext cx="9216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PenAnnotation79"/>
          <p:cNvSpPr/>
          <p:nvPr/>
        </p:nvSpPr>
        <p:spPr>
          <a:xfrm>
            <a:off x="3363840" y="4394160"/>
            <a:ext cx="192240" cy="254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PenAnnotation80"/>
          <p:cNvSpPr/>
          <p:nvPr/>
        </p:nvSpPr>
        <p:spPr>
          <a:xfrm>
            <a:off x="3611520" y="4514760"/>
            <a:ext cx="30960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PenAnnotation81"/>
          <p:cNvSpPr/>
          <p:nvPr/>
        </p:nvSpPr>
        <p:spPr>
          <a:xfrm>
            <a:off x="3760920" y="4435560"/>
            <a:ext cx="17280" cy="27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PenAnnotation82"/>
          <p:cNvSpPr/>
          <p:nvPr/>
        </p:nvSpPr>
        <p:spPr>
          <a:xfrm>
            <a:off x="3978360" y="4378320"/>
            <a:ext cx="22320" cy="27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PenAnnotation83"/>
          <p:cNvSpPr/>
          <p:nvPr/>
        </p:nvSpPr>
        <p:spPr>
          <a:xfrm>
            <a:off x="4092480" y="4321080"/>
            <a:ext cx="18252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PenAnnotation84"/>
          <p:cNvSpPr/>
          <p:nvPr/>
        </p:nvSpPr>
        <p:spPr>
          <a:xfrm>
            <a:off x="2050920" y="5108400"/>
            <a:ext cx="241560" cy="40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PenAnnotation85"/>
          <p:cNvSpPr/>
          <p:nvPr/>
        </p:nvSpPr>
        <p:spPr>
          <a:xfrm>
            <a:off x="2446200" y="5108400"/>
            <a:ext cx="301680" cy="355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PenAnnotation86"/>
          <p:cNvSpPr/>
          <p:nvPr/>
        </p:nvSpPr>
        <p:spPr>
          <a:xfrm>
            <a:off x="2936880" y="5029200"/>
            <a:ext cx="22860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PenAnnotation87"/>
          <p:cNvSpPr/>
          <p:nvPr/>
        </p:nvSpPr>
        <p:spPr>
          <a:xfrm>
            <a:off x="2936880" y="4994280"/>
            <a:ext cx="228600" cy="434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PenAnnotation88"/>
          <p:cNvSpPr/>
          <p:nvPr/>
        </p:nvSpPr>
        <p:spPr>
          <a:xfrm>
            <a:off x="3222720" y="5097600"/>
            <a:ext cx="298440" cy="56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PenAnnotation89"/>
          <p:cNvSpPr/>
          <p:nvPr/>
        </p:nvSpPr>
        <p:spPr>
          <a:xfrm>
            <a:off x="3681360" y="4915080"/>
            <a:ext cx="28404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PenAnnotation90"/>
          <p:cNvSpPr/>
          <p:nvPr/>
        </p:nvSpPr>
        <p:spPr>
          <a:xfrm>
            <a:off x="7097760" y="6173640"/>
            <a:ext cx="46080" cy="55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PenAnnotation91"/>
          <p:cNvSpPr/>
          <p:nvPr/>
        </p:nvSpPr>
        <p:spPr>
          <a:xfrm>
            <a:off x="7132680" y="5921280"/>
            <a:ext cx="22860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PenAnnotation92"/>
          <p:cNvSpPr/>
          <p:nvPr/>
        </p:nvSpPr>
        <p:spPr>
          <a:xfrm>
            <a:off x="7211880" y="4435560"/>
            <a:ext cx="1795680" cy="161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PenAnnotation93"/>
          <p:cNvSpPr/>
          <p:nvPr/>
        </p:nvSpPr>
        <p:spPr>
          <a:xfrm>
            <a:off x="5989680" y="4754520"/>
            <a:ext cx="305100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PenAnnotation94"/>
          <p:cNvSpPr/>
          <p:nvPr/>
        </p:nvSpPr>
        <p:spPr>
          <a:xfrm>
            <a:off x="8550360" y="4734000"/>
            <a:ext cx="68040" cy="10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PenAnnotation95"/>
          <p:cNvSpPr/>
          <p:nvPr/>
        </p:nvSpPr>
        <p:spPr>
          <a:xfrm>
            <a:off x="8354880" y="5578560"/>
            <a:ext cx="217800" cy="501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PenAnnotation96"/>
          <p:cNvSpPr/>
          <p:nvPr/>
        </p:nvSpPr>
        <p:spPr>
          <a:xfrm>
            <a:off x="8308800" y="5668920"/>
            <a:ext cx="263880" cy="37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PenAnnotation97"/>
          <p:cNvSpPr/>
          <p:nvPr/>
        </p:nvSpPr>
        <p:spPr>
          <a:xfrm>
            <a:off x="8607600" y="5635800"/>
            <a:ext cx="180720" cy="257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PenAnnotation98"/>
          <p:cNvSpPr/>
          <p:nvPr/>
        </p:nvSpPr>
        <p:spPr>
          <a:xfrm>
            <a:off x="8825040" y="5554800"/>
            <a:ext cx="15876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MARTPenAnnotation0"/>
          <p:cNvSpPr/>
          <p:nvPr/>
        </p:nvSpPr>
        <p:spPr>
          <a:xfrm>
            <a:off x="2525760" y="2651040"/>
            <a:ext cx="331920" cy="320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PenAnnotation1"/>
          <p:cNvSpPr/>
          <p:nvPr/>
        </p:nvSpPr>
        <p:spPr>
          <a:xfrm>
            <a:off x="2422440" y="2651040"/>
            <a:ext cx="389160" cy="389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PenAnnotation2"/>
          <p:cNvSpPr/>
          <p:nvPr/>
        </p:nvSpPr>
        <p:spPr>
          <a:xfrm>
            <a:off x="3040200" y="2754360"/>
            <a:ext cx="39996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PenAnnotation3"/>
          <p:cNvSpPr/>
          <p:nvPr/>
        </p:nvSpPr>
        <p:spPr>
          <a:xfrm>
            <a:off x="3211560" y="2664000"/>
            <a:ext cx="34920" cy="34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PenAnnotation4"/>
          <p:cNvSpPr/>
          <p:nvPr/>
        </p:nvSpPr>
        <p:spPr>
          <a:xfrm>
            <a:off x="3565440" y="2536920"/>
            <a:ext cx="23760" cy="446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PenAnnotation5"/>
          <p:cNvSpPr/>
          <p:nvPr/>
        </p:nvSpPr>
        <p:spPr>
          <a:xfrm>
            <a:off x="3762360" y="2583000"/>
            <a:ext cx="385920" cy="41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PenAnnotation6"/>
          <p:cNvSpPr/>
          <p:nvPr/>
        </p:nvSpPr>
        <p:spPr>
          <a:xfrm>
            <a:off x="4343400" y="2629080"/>
            <a:ext cx="457200" cy="280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PenAnnotation7"/>
          <p:cNvSpPr/>
          <p:nvPr/>
        </p:nvSpPr>
        <p:spPr>
          <a:xfrm>
            <a:off x="4983120" y="2468520"/>
            <a:ext cx="68400" cy="480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PenAnnotation8"/>
          <p:cNvSpPr/>
          <p:nvPr/>
        </p:nvSpPr>
        <p:spPr>
          <a:xfrm>
            <a:off x="5157720" y="2446200"/>
            <a:ext cx="339840" cy="433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PenAnnotation9"/>
          <p:cNvSpPr/>
          <p:nvPr/>
        </p:nvSpPr>
        <p:spPr>
          <a:xfrm>
            <a:off x="5727600" y="2549520"/>
            <a:ext cx="479520" cy="297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PenAnnotation10"/>
          <p:cNvSpPr/>
          <p:nvPr/>
        </p:nvSpPr>
        <p:spPr>
          <a:xfrm>
            <a:off x="6458040" y="2536920"/>
            <a:ext cx="33156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PenAnnotation11"/>
          <p:cNvSpPr/>
          <p:nvPr/>
        </p:nvSpPr>
        <p:spPr>
          <a:xfrm>
            <a:off x="6251400" y="2560680"/>
            <a:ext cx="481320" cy="361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PenAnnotation12"/>
          <p:cNvSpPr/>
          <p:nvPr/>
        </p:nvSpPr>
        <p:spPr>
          <a:xfrm>
            <a:off x="7040520" y="2732040"/>
            <a:ext cx="468360" cy="3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PenAnnotation13"/>
          <p:cNvSpPr/>
          <p:nvPr/>
        </p:nvSpPr>
        <p:spPr>
          <a:xfrm>
            <a:off x="7143840" y="2606760"/>
            <a:ext cx="10296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PenAnnotation14"/>
          <p:cNvSpPr/>
          <p:nvPr/>
        </p:nvSpPr>
        <p:spPr>
          <a:xfrm>
            <a:off x="7499520" y="2565360"/>
            <a:ext cx="466560" cy="42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PenAnnotation15"/>
          <p:cNvSpPr/>
          <p:nvPr/>
        </p:nvSpPr>
        <p:spPr>
          <a:xfrm>
            <a:off x="7967520" y="2606760"/>
            <a:ext cx="443160" cy="398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PenAnnotation16"/>
          <p:cNvSpPr/>
          <p:nvPr/>
        </p:nvSpPr>
        <p:spPr>
          <a:xfrm>
            <a:off x="2125800" y="3440160"/>
            <a:ext cx="42372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PenAnnotation17"/>
          <p:cNvSpPr/>
          <p:nvPr/>
        </p:nvSpPr>
        <p:spPr>
          <a:xfrm>
            <a:off x="2674800" y="3211560"/>
            <a:ext cx="343080" cy="480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PenAnnotation18"/>
          <p:cNvSpPr/>
          <p:nvPr/>
        </p:nvSpPr>
        <p:spPr>
          <a:xfrm>
            <a:off x="2492280" y="3325680"/>
            <a:ext cx="46836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PenAnnotation19"/>
          <p:cNvSpPr/>
          <p:nvPr/>
        </p:nvSpPr>
        <p:spPr>
          <a:xfrm>
            <a:off x="4800600" y="3314880"/>
            <a:ext cx="45720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PenAnnotation20"/>
          <p:cNvSpPr/>
          <p:nvPr/>
        </p:nvSpPr>
        <p:spPr>
          <a:xfrm>
            <a:off x="5394240" y="3143160"/>
            <a:ext cx="41292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PenAnnotation21"/>
          <p:cNvSpPr/>
          <p:nvPr/>
        </p:nvSpPr>
        <p:spPr>
          <a:xfrm>
            <a:off x="5326200" y="3235320"/>
            <a:ext cx="480960" cy="262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PenAnnotation22"/>
          <p:cNvSpPr/>
          <p:nvPr/>
        </p:nvSpPr>
        <p:spPr>
          <a:xfrm>
            <a:off x="6194520" y="3336840"/>
            <a:ext cx="35568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PenAnnotation23"/>
          <p:cNvSpPr/>
          <p:nvPr/>
        </p:nvSpPr>
        <p:spPr>
          <a:xfrm>
            <a:off x="6629400" y="3143160"/>
            <a:ext cx="446040" cy="331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PenAnnotation24"/>
          <p:cNvSpPr/>
          <p:nvPr/>
        </p:nvSpPr>
        <p:spPr>
          <a:xfrm>
            <a:off x="6526080" y="3211560"/>
            <a:ext cx="48132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PenAnnotation25"/>
          <p:cNvSpPr/>
          <p:nvPr/>
        </p:nvSpPr>
        <p:spPr>
          <a:xfrm>
            <a:off x="2263680" y="4079880"/>
            <a:ext cx="79560" cy="595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PenAnnotation26"/>
          <p:cNvSpPr/>
          <p:nvPr/>
        </p:nvSpPr>
        <p:spPr>
          <a:xfrm>
            <a:off x="2492280" y="4103640"/>
            <a:ext cx="422280" cy="514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PenAnnotation27"/>
          <p:cNvSpPr/>
          <p:nvPr/>
        </p:nvSpPr>
        <p:spPr>
          <a:xfrm>
            <a:off x="3052800" y="4194000"/>
            <a:ext cx="53640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PenAnnotation28"/>
          <p:cNvSpPr/>
          <p:nvPr/>
        </p:nvSpPr>
        <p:spPr>
          <a:xfrm>
            <a:off x="3863880" y="4103640"/>
            <a:ext cx="125640" cy="582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PenAnnotation29"/>
          <p:cNvSpPr/>
          <p:nvPr/>
        </p:nvSpPr>
        <p:spPr>
          <a:xfrm>
            <a:off x="4137120" y="4138560"/>
            <a:ext cx="480960" cy="468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PenAnnotation30"/>
          <p:cNvSpPr/>
          <p:nvPr/>
        </p:nvSpPr>
        <p:spPr>
          <a:xfrm>
            <a:off x="4754520" y="4400640"/>
            <a:ext cx="25236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PenAnnotation31"/>
          <p:cNvSpPr/>
          <p:nvPr/>
        </p:nvSpPr>
        <p:spPr>
          <a:xfrm>
            <a:off x="5211720" y="4218120"/>
            <a:ext cx="492120" cy="479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PenAnnotation32"/>
          <p:cNvSpPr/>
          <p:nvPr/>
        </p:nvSpPr>
        <p:spPr>
          <a:xfrm>
            <a:off x="5154480" y="4343400"/>
            <a:ext cx="45720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33"/>
          <p:cNvSpPr/>
          <p:nvPr/>
        </p:nvSpPr>
        <p:spPr>
          <a:xfrm>
            <a:off x="5840280" y="4286160"/>
            <a:ext cx="503280" cy="360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MARTPenAnnotation34"/>
          <p:cNvSpPr/>
          <p:nvPr/>
        </p:nvSpPr>
        <p:spPr>
          <a:xfrm>
            <a:off x="6446880" y="4194000"/>
            <a:ext cx="604800" cy="57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MARTPenAnnotation35"/>
          <p:cNvSpPr/>
          <p:nvPr/>
        </p:nvSpPr>
        <p:spPr>
          <a:xfrm>
            <a:off x="7040520" y="4218120"/>
            <a:ext cx="389160" cy="512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MARTPenAnnotation36"/>
          <p:cNvSpPr/>
          <p:nvPr/>
        </p:nvSpPr>
        <p:spPr>
          <a:xfrm>
            <a:off x="3851280" y="4778280"/>
            <a:ext cx="22860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PenAnnotation37"/>
          <p:cNvSpPr/>
          <p:nvPr/>
        </p:nvSpPr>
        <p:spPr>
          <a:xfrm>
            <a:off x="4172040" y="4697280"/>
            <a:ext cx="21960" cy="25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PenAnnotation38"/>
          <p:cNvSpPr/>
          <p:nvPr/>
        </p:nvSpPr>
        <p:spPr>
          <a:xfrm>
            <a:off x="4321080" y="4721400"/>
            <a:ext cx="262080" cy="239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MARTPenAnnotation39"/>
          <p:cNvSpPr/>
          <p:nvPr/>
        </p:nvSpPr>
        <p:spPr>
          <a:xfrm>
            <a:off x="2365200" y="4800600"/>
            <a:ext cx="25272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PenAnnotation40"/>
          <p:cNvSpPr/>
          <p:nvPr/>
        </p:nvSpPr>
        <p:spPr>
          <a:xfrm>
            <a:off x="2697120" y="4732200"/>
            <a:ext cx="57240" cy="204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PenAnnotation41"/>
          <p:cNvSpPr/>
          <p:nvPr/>
        </p:nvSpPr>
        <p:spPr>
          <a:xfrm>
            <a:off x="1157400" y="5211720"/>
            <a:ext cx="396720" cy="444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PenAnnotation42"/>
          <p:cNvSpPr/>
          <p:nvPr/>
        </p:nvSpPr>
        <p:spPr>
          <a:xfrm>
            <a:off x="2879640" y="4879800"/>
            <a:ext cx="217440" cy="2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PenAnnotation43"/>
          <p:cNvSpPr/>
          <p:nvPr/>
        </p:nvSpPr>
        <p:spPr>
          <a:xfrm>
            <a:off x="2822400" y="4721400"/>
            <a:ext cx="217800" cy="214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PenAnnotation44"/>
          <p:cNvSpPr/>
          <p:nvPr/>
        </p:nvSpPr>
        <p:spPr>
          <a:xfrm>
            <a:off x="6515280" y="4916520"/>
            <a:ext cx="28548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PenAnnotation45"/>
          <p:cNvSpPr/>
          <p:nvPr/>
        </p:nvSpPr>
        <p:spPr>
          <a:xfrm>
            <a:off x="6892920" y="4811760"/>
            <a:ext cx="55440" cy="27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PenAnnotation46"/>
          <p:cNvSpPr/>
          <p:nvPr/>
        </p:nvSpPr>
        <p:spPr>
          <a:xfrm>
            <a:off x="7018200" y="4800600"/>
            <a:ext cx="41148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MARTPenAnnotation47"/>
          <p:cNvSpPr/>
          <p:nvPr/>
        </p:nvSpPr>
        <p:spPr>
          <a:xfrm>
            <a:off x="2320920" y="5440320"/>
            <a:ext cx="25092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MARTPenAnnotation48"/>
          <p:cNvSpPr/>
          <p:nvPr/>
        </p:nvSpPr>
        <p:spPr>
          <a:xfrm>
            <a:off x="2778120" y="5257800"/>
            <a:ext cx="41112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PenAnnotation49"/>
          <p:cNvSpPr/>
          <p:nvPr/>
        </p:nvSpPr>
        <p:spPr>
          <a:xfrm>
            <a:off x="3294000" y="5315040"/>
            <a:ext cx="37476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PenAnnotation50"/>
          <p:cNvSpPr/>
          <p:nvPr/>
        </p:nvSpPr>
        <p:spPr>
          <a:xfrm>
            <a:off x="3726000" y="5429160"/>
            <a:ext cx="252360" cy="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ARTPenAnnotation51"/>
          <p:cNvSpPr/>
          <p:nvPr/>
        </p:nvSpPr>
        <p:spPr>
          <a:xfrm>
            <a:off x="4114800" y="5280120"/>
            <a:ext cx="343080" cy="355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ARTPenAnnotation52"/>
          <p:cNvSpPr/>
          <p:nvPr/>
        </p:nvSpPr>
        <p:spPr>
          <a:xfrm>
            <a:off x="4149720" y="5361120"/>
            <a:ext cx="272880" cy="160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ARTPenAnnotation53"/>
          <p:cNvSpPr/>
          <p:nvPr/>
        </p:nvSpPr>
        <p:spPr>
          <a:xfrm>
            <a:off x="4606920" y="5303880"/>
            <a:ext cx="39996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ARTPenAnnotation54"/>
          <p:cNvSpPr/>
          <p:nvPr/>
        </p:nvSpPr>
        <p:spPr>
          <a:xfrm>
            <a:off x="5189400" y="5200560"/>
            <a:ext cx="354240" cy="657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ARTPenAnnotation55"/>
          <p:cNvSpPr/>
          <p:nvPr/>
        </p:nvSpPr>
        <p:spPr>
          <a:xfrm>
            <a:off x="2868480" y="5923080"/>
            <a:ext cx="411120" cy="409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MARTPenAnnotation56"/>
          <p:cNvSpPr/>
          <p:nvPr/>
        </p:nvSpPr>
        <p:spPr>
          <a:xfrm>
            <a:off x="3325680" y="5908680"/>
            <a:ext cx="37620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MARTPenAnnotation57"/>
          <p:cNvSpPr/>
          <p:nvPr/>
        </p:nvSpPr>
        <p:spPr>
          <a:xfrm>
            <a:off x="3875040" y="5886360"/>
            <a:ext cx="376200" cy="389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MARTPenAnnotation58"/>
          <p:cNvSpPr/>
          <p:nvPr/>
        </p:nvSpPr>
        <p:spPr>
          <a:xfrm>
            <a:off x="3897360" y="5994360"/>
            <a:ext cx="338040" cy="189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MARTPenAnnotation59"/>
          <p:cNvSpPr/>
          <p:nvPr/>
        </p:nvSpPr>
        <p:spPr>
          <a:xfrm>
            <a:off x="4354560" y="5983200"/>
            <a:ext cx="353880" cy="235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ARTPenAnnotation60"/>
          <p:cNvSpPr/>
          <p:nvPr/>
        </p:nvSpPr>
        <p:spPr>
          <a:xfrm>
            <a:off x="4811760" y="6080040"/>
            <a:ext cx="342720" cy="66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ARTPenAnnotation61"/>
          <p:cNvSpPr/>
          <p:nvPr/>
        </p:nvSpPr>
        <p:spPr>
          <a:xfrm>
            <a:off x="5283360" y="5818320"/>
            <a:ext cx="271440" cy="547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MARTPenAnnotation62"/>
          <p:cNvSpPr/>
          <p:nvPr/>
        </p:nvSpPr>
        <p:spPr>
          <a:xfrm>
            <a:off x="6413400" y="5372280"/>
            <a:ext cx="284400" cy="1028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ARTPenAnnotation63"/>
          <p:cNvSpPr/>
          <p:nvPr/>
        </p:nvSpPr>
        <p:spPr>
          <a:xfrm>
            <a:off x="6640560" y="5877000"/>
            <a:ext cx="263520" cy="31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MARTPenAnnotation64"/>
          <p:cNvSpPr/>
          <p:nvPr/>
        </p:nvSpPr>
        <p:spPr>
          <a:xfrm>
            <a:off x="7086600" y="5521320"/>
            <a:ext cx="353880" cy="833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ARTPenAnnotation65"/>
          <p:cNvSpPr/>
          <p:nvPr/>
        </p:nvSpPr>
        <p:spPr>
          <a:xfrm>
            <a:off x="7486560" y="6207120"/>
            <a:ext cx="22320" cy="297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MARTPenAnnotation66"/>
          <p:cNvSpPr/>
          <p:nvPr/>
        </p:nvSpPr>
        <p:spPr>
          <a:xfrm>
            <a:off x="7693200" y="5554800"/>
            <a:ext cx="376200" cy="490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MARTPenAnnotation67"/>
          <p:cNvSpPr/>
          <p:nvPr/>
        </p:nvSpPr>
        <p:spPr>
          <a:xfrm>
            <a:off x="8001000" y="5268960"/>
            <a:ext cx="285840" cy="903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Your assignment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676160" y="2332080"/>
            <a:ext cx="746748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4-13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2-4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44, 48, 64, 68, 86, 88, 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Objectives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basic vocabulary related to ine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nterval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linear inequalities symbolically, numerically, and 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compound ine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Vocabulary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676160" y="2332080"/>
            <a:ext cx="7467480" cy="44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quality: compares two items using &lt;, &gt;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, or ≥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x&gt;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ndard form of linear inequality: ax+b&gt;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ution set: values that make an inequality a tru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ound inequality: two inequalities connected by “and” or “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&gt; 5 or x&lt;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1&lt;x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Interval notation (page 1)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bound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if not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 if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f not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if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gt;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extends towar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(a, ∞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lt;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extends towards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(-∞,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Interval notation (page 2)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746748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extends towar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[a, ∞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extends towards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(-∞, 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&lt;x&lt;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(a,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≤x≤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interval notation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Interval Notation (page 3)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676160" y="2332080"/>
            <a:ext cx="7467480" cy="39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, b) is called an open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, b] or [a, b) is called a half-open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a, b] is called a closed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∞ or -∞ is involved, it is an infinite inter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Symbolic method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676520" y="2332080"/>
            <a:ext cx="7315200" cy="437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A the algebraic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the same way you would solve a linear equation, except that if you multiply or divide by a negative, you must switch the direction of the inequality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+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x+1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&lt; x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141"/>
          <p:cNvSpPr/>
          <p:nvPr/>
        </p:nvSpPr>
        <p:spPr>
          <a:xfrm>
            <a:off x="1646280" y="6012000"/>
            <a:ext cx="222120" cy="522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142"/>
          <p:cNvSpPr/>
          <p:nvPr/>
        </p:nvSpPr>
        <p:spPr>
          <a:xfrm>
            <a:off x="1943280" y="6207120"/>
            <a:ext cx="36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143"/>
          <p:cNvSpPr/>
          <p:nvPr/>
        </p:nvSpPr>
        <p:spPr>
          <a:xfrm>
            <a:off x="3657600" y="5783400"/>
            <a:ext cx="18252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144"/>
          <p:cNvSpPr/>
          <p:nvPr/>
        </p:nvSpPr>
        <p:spPr>
          <a:xfrm>
            <a:off x="3578400" y="5932440"/>
            <a:ext cx="2880" cy="360"/>
          </a:xfrm>
          <a:prstGeom prst="pie">
            <a:avLst/>
          </a:prstGeom>
          <a:solidFill>
            <a:srgbClr val="ff00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145"/>
          <p:cNvSpPr/>
          <p:nvPr/>
        </p:nvSpPr>
        <p:spPr>
          <a:xfrm>
            <a:off x="1565280" y="5943600"/>
            <a:ext cx="326880" cy="606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146"/>
          <p:cNvSpPr/>
          <p:nvPr/>
        </p:nvSpPr>
        <p:spPr>
          <a:xfrm>
            <a:off x="2308320" y="6172200"/>
            <a:ext cx="320760" cy="617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147"/>
          <p:cNvSpPr/>
          <p:nvPr/>
        </p:nvSpPr>
        <p:spPr>
          <a:xfrm>
            <a:off x="5108400" y="4697280"/>
            <a:ext cx="20664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148"/>
          <p:cNvSpPr/>
          <p:nvPr/>
        </p:nvSpPr>
        <p:spPr>
          <a:xfrm>
            <a:off x="5108400" y="4754520"/>
            <a:ext cx="24156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149"/>
          <p:cNvSpPr/>
          <p:nvPr/>
        </p:nvSpPr>
        <p:spPr>
          <a:xfrm>
            <a:off x="5451480" y="4778280"/>
            <a:ext cx="26352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150"/>
          <p:cNvSpPr/>
          <p:nvPr/>
        </p:nvSpPr>
        <p:spPr>
          <a:xfrm>
            <a:off x="5807160" y="4618080"/>
            <a:ext cx="272880" cy="284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151"/>
          <p:cNvSpPr/>
          <p:nvPr/>
        </p:nvSpPr>
        <p:spPr>
          <a:xfrm>
            <a:off x="6230880" y="4622760"/>
            <a:ext cx="262080" cy="31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152"/>
          <p:cNvSpPr/>
          <p:nvPr/>
        </p:nvSpPr>
        <p:spPr>
          <a:xfrm>
            <a:off x="6708600" y="4618080"/>
            <a:ext cx="19548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153"/>
          <p:cNvSpPr/>
          <p:nvPr/>
        </p:nvSpPr>
        <p:spPr>
          <a:xfrm>
            <a:off x="7029360" y="4708440"/>
            <a:ext cx="160560" cy="241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154"/>
          <p:cNvSpPr/>
          <p:nvPr/>
        </p:nvSpPr>
        <p:spPr>
          <a:xfrm>
            <a:off x="6972480" y="4675320"/>
            <a:ext cx="27432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155"/>
          <p:cNvSpPr/>
          <p:nvPr/>
        </p:nvSpPr>
        <p:spPr>
          <a:xfrm>
            <a:off x="7292880" y="4765680"/>
            <a:ext cx="25092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156"/>
          <p:cNvSpPr/>
          <p:nvPr/>
        </p:nvSpPr>
        <p:spPr>
          <a:xfrm>
            <a:off x="7637400" y="4640400"/>
            <a:ext cx="9720" cy="28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157"/>
          <p:cNvSpPr/>
          <p:nvPr/>
        </p:nvSpPr>
        <p:spPr>
          <a:xfrm>
            <a:off x="7761240" y="4618080"/>
            <a:ext cx="27468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158"/>
          <p:cNvSpPr/>
          <p:nvPr/>
        </p:nvSpPr>
        <p:spPr>
          <a:xfrm>
            <a:off x="6583320" y="5246640"/>
            <a:ext cx="1713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159"/>
          <p:cNvSpPr/>
          <p:nvPr/>
        </p:nvSpPr>
        <p:spPr>
          <a:xfrm>
            <a:off x="6835680" y="5064120"/>
            <a:ext cx="19368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160"/>
          <p:cNvSpPr/>
          <p:nvPr/>
        </p:nvSpPr>
        <p:spPr>
          <a:xfrm>
            <a:off x="7086600" y="5108400"/>
            <a:ext cx="136440" cy="149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161"/>
          <p:cNvSpPr/>
          <p:nvPr/>
        </p:nvSpPr>
        <p:spPr>
          <a:xfrm>
            <a:off x="7075440" y="5086440"/>
            <a:ext cx="16056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162"/>
          <p:cNvSpPr/>
          <p:nvPr/>
        </p:nvSpPr>
        <p:spPr>
          <a:xfrm>
            <a:off x="4933800" y="5246640"/>
            <a:ext cx="15264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163"/>
          <p:cNvSpPr/>
          <p:nvPr/>
        </p:nvSpPr>
        <p:spPr>
          <a:xfrm>
            <a:off x="5051520" y="5041800"/>
            <a:ext cx="252360" cy="409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164"/>
          <p:cNvSpPr/>
          <p:nvPr/>
        </p:nvSpPr>
        <p:spPr>
          <a:xfrm>
            <a:off x="5338800" y="5154480"/>
            <a:ext cx="9036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165"/>
          <p:cNvSpPr/>
          <p:nvPr/>
        </p:nvSpPr>
        <p:spPr>
          <a:xfrm>
            <a:off x="5257800" y="5143680"/>
            <a:ext cx="239760" cy="30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166"/>
          <p:cNvSpPr/>
          <p:nvPr/>
        </p:nvSpPr>
        <p:spPr>
          <a:xfrm>
            <a:off x="4976640" y="5783400"/>
            <a:ext cx="223920" cy="5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167"/>
          <p:cNvSpPr/>
          <p:nvPr/>
        </p:nvSpPr>
        <p:spPr>
          <a:xfrm>
            <a:off x="5268960" y="5611680"/>
            <a:ext cx="19512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168"/>
          <p:cNvSpPr/>
          <p:nvPr/>
        </p:nvSpPr>
        <p:spPr>
          <a:xfrm>
            <a:off x="5532480" y="5657760"/>
            <a:ext cx="11412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169"/>
          <p:cNvSpPr/>
          <p:nvPr/>
        </p:nvSpPr>
        <p:spPr>
          <a:xfrm>
            <a:off x="5521320" y="5635800"/>
            <a:ext cx="147600" cy="250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170"/>
          <p:cNvSpPr/>
          <p:nvPr/>
        </p:nvSpPr>
        <p:spPr>
          <a:xfrm>
            <a:off x="5726160" y="5703840"/>
            <a:ext cx="23976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171"/>
          <p:cNvSpPr/>
          <p:nvPr/>
        </p:nvSpPr>
        <p:spPr>
          <a:xfrm>
            <a:off x="6000840" y="5486400"/>
            <a:ext cx="26352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172"/>
          <p:cNvSpPr/>
          <p:nvPr/>
        </p:nvSpPr>
        <p:spPr>
          <a:xfrm>
            <a:off x="6402240" y="5521320"/>
            <a:ext cx="18108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173"/>
          <p:cNvSpPr/>
          <p:nvPr/>
        </p:nvSpPr>
        <p:spPr>
          <a:xfrm>
            <a:off x="6675480" y="5578560"/>
            <a:ext cx="18252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174"/>
          <p:cNvSpPr/>
          <p:nvPr/>
        </p:nvSpPr>
        <p:spPr>
          <a:xfrm>
            <a:off x="6985080" y="5486400"/>
            <a:ext cx="936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175"/>
          <p:cNvSpPr/>
          <p:nvPr/>
        </p:nvSpPr>
        <p:spPr>
          <a:xfrm>
            <a:off x="7086600" y="5451480"/>
            <a:ext cx="297000" cy="241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176"/>
          <p:cNvSpPr/>
          <p:nvPr/>
        </p:nvSpPr>
        <p:spPr>
          <a:xfrm>
            <a:off x="5783400" y="5888160"/>
            <a:ext cx="34920" cy="215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177"/>
          <p:cNvSpPr/>
          <p:nvPr/>
        </p:nvSpPr>
        <p:spPr>
          <a:xfrm>
            <a:off x="5668920" y="5954760"/>
            <a:ext cx="16056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178"/>
          <p:cNvSpPr/>
          <p:nvPr/>
        </p:nvSpPr>
        <p:spPr>
          <a:xfrm>
            <a:off x="5932440" y="5829480"/>
            <a:ext cx="308160" cy="239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179"/>
          <p:cNvSpPr/>
          <p:nvPr/>
        </p:nvSpPr>
        <p:spPr>
          <a:xfrm>
            <a:off x="6835680" y="5851440"/>
            <a:ext cx="147600" cy="92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180"/>
          <p:cNvSpPr/>
          <p:nvPr/>
        </p:nvSpPr>
        <p:spPr>
          <a:xfrm>
            <a:off x="6859440" y="5772240"/>
            <a:ext cx="55800" cy="250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181"/>
          <p:cNvSpPr/>
          <p:nvPr/>
        </p:nvSpPr>
        <p:spPr>
          <a:xfrm>
            <a:off x="7040520" y="5794200"/>
            <a:ext cx="228600" cy="206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182"/>
          <p:cNvSpPr/>
          <p:nvPr/>
        </p:nvSpPr>
        <p:spPr>
          <a:xfrm>
            <a:off x="5389560" y="6400800"/>
            <a:ext cx="24624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183"/>
          <p:cNvSpPr/>
          <p:nvPr/>
        </p:nvSpPr>
        <p:spPr>
          <a:xfrm>
            <a:off x="5754600" y="6229440"/>
            <a:ext cx="211320" cy="388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184"/>
          <p:cNvSpPr/>
          <p:nvPr/>
        </p:nvSpPr>
        <p:spPr>
          <a:xfrm>
            <a:off x="6080040" y="6308640"/>
            <a:ext cx="16056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185"/>
          <p:cNvSpPr/>
          <p:nvPr/>
        </p:nvSpPr>
        <p:spPr>
          <a:xfrm>
            <a:off x="6068880" y="6264360"/>
            <a:ext cx="22860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PenAnnotation186"/>
          <p:cNvSpPr/>
          <p:nvPr/>
        </p:nvSpPr>
        <p:spPr>
          <a:xfrm>
            <a:off x="6356520" y="6240600"/>
            <a:ext cx="237960" cy="320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Numerical method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2331720"/>
            <a:ext cx="563868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chart to find the values greater than, less than, and equal 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2&gt;3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1&lt;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6629400" y="2666880"/>
          <a:ext cx="2057400" cy="37339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9" name="SMARTPenAnnotation119"/>
          <p:cNvSpPr/>
          <p:nvPr/>
        </p:nvSpPr>
        <p:spPr>
          <a:xfrm>
            <a:off x="6823080" y="3417840"/>
            <a:ext cx="237960" cy="297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120"/>
          <p:cNvSpPr/>
          <p:nvPr/>
        </p:nvSpPr>
        <p:spPr>
          <a:xfrm>
            <a:off x="7508880" y="3441600"/>
            <a:ext cx="228600" cy="365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121"/>
          <p:cNvSpPr/>
          <p:nvPr/>
        </p:nvSpPr>
        <p:spPr>
          <a:xfrm>
            <a:off x="8155080" y="3600360"/>
            <a:ext cx="18900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122"/>
          <p:cNvSpPr/>
          <p:nvPr/>
        </p:nvSpPr>
        <p:spPr>
          <a:xfrm>
            <a:off x="8480520" y="3417840"/>
            <a:ext cx="34920" cy="376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123"/>
          <p:cNvSpPr/>
          <p:nvPr/>
        </p:nvSpPr>
        <p:spPr>
          <a:xfrm>
            <a:off x="6996240" y="3968640"/>
            <a:ext cx="33120" cy="432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124"/>
          <p:cNvSpPr/>
          <p:nvPr/>
        </p:nvSpPr>
        <p:spPr>
          <a:xfrm>
            <a:off x="7532640" y="4046400"/>
            <a:ext cx="239760" cy="330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125"/>
          <p:cNvSpPr/>
          <p:nvPr/>
        </p:nvSpPr>
        <p:spPr>
          <a:xfrm>
            <a:off x="8194680" y="3990960"/>
            <a:ext cx="355680" cy="330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126"/>
          <p:cNvSpPr/>
          <p:nvPr/>
        </p:nvSpPr>
        <p:spPr>
          <a:xfrm>
            <a:off x="6823080" y="4654440"/>
            <a:ext cx="285840" cy="260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127"/>
          <p:cNvSpPr/>
          <p:nvPr/>
        </p:nvSpPr>
        <p:spPr>
          <a:xfrm>
            <a:off x="7477200" y="4629240"/>
            <a:ext cx="272880" cy="158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128"/>
          <p:cNvSpPr/>
          <p:nvPr/>
        </p:nvSpPr>
        <p:spPr>
          <a:xfrm>
            <a:off x="7693200" y="4560840"/>
            <a:ext cx="21960" cy="433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129"/>
          <p:cNvSpPr/>
          <p:nvPr/>
        </p:nvSpPr>
        <p:spPr>
          <a:xfrm>
            <a:off x="8069400" y="4633920"/>
            <a:ext cx="411120" cy="336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130"/>
          <p:cNvSpPr/>
          <p:nvPr/>
        </p:nvSpPr>
        <p:spPr>
          <a:xfrm>
            <a:off x="6721560" y="5235480"/>
            <a:ext cx="114120" cy="433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131"/>
          <p:cNvSpPr/>
          <p:nvPr/>
        </p:nvSpPr>
        <p:spPr>
          <a:xfrm>
            <a:off x="6829560" y="5578560"/>
            <a:ext cx="1728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132"/>
          <p:cNvSpPr/>
          <p:nvPr/>
        </p:nvSpPr>
        <p:spPr>
          <a:xfrm>
            <a:off x="6950160" y="5316480"/>
            <a:ext cx="193680" cy="273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133"/>
          <p:cNvSpPr/>
          <p:nvPr/>
        </p:nvSpPr>
        <p:spPr>
          <a:xfrm>
            <a:off x="7337520" y="5246640"/>
            <a:ext cx="247680" cy="376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134"/>
          <p:cNvSpPr/>
          <p:nvPr/>
        </p:nvSpPr>
        <p:spPr>
          <a:xfrm>
            <a:off x="7589880" y="5532480"/>
            <a:ext cx="1116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135"/>
          <p:cNvSpPr/>
          <p:nvPr/>
        </p:nvSpPr>
        <p:spPr>
          <a:xfrm>
            <a:off x="7715160" y="5205240"/>
            <a:ext cx="182520" cy="338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136"/>
          <p:cNvSpPr/>
          <p:nvPr/>
        </p:nvSpPr>
        <p:spPr>
          <a:xfrm>
            <a:off x="7578720" y="5475240"/>
            <a:ext cx="33480" cy="39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137"/>
          <p:cNvSpPr/>
          <p:nvPr/>
        </p:nvSpPr>
        <p:spPr>
          <a:xfrm>
            <a:off x="8047080" y="5280120"/>
            <a:ext cx="171360" cy="285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138"/>
          <p:cNvSpPr/>
          <p:nvPr/>
        </p:nvSpPr>
        <p:spPr>
          <a:xfrm>
            <a:off x="8275680" y="5451480"/>
            <a:ext cx="1116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139"/>
          <p:cNvSpPr/>
          <p:nvPr/>
        </p:nvSpPr>
        <p:spPr>
          <a:xfrm>
            <a:off x="8389800" y="5211720"/>
            <a:ext cx="216000" cy="297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PenAnnotation140"/>
          <p:cNvSpPr/>
          <p:nvPr/>
        </p:nvSpPr>
        <p:spPr>
          <a:xfrm>
            <a:off x="7567560" y="5486400"/>
            <a:ext cx="79560" cy="103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c1c1c"/>
                </a:solidFill>
                <a:latin typeface="Carnivalee Freakshow"/>
              </a:rPr>
              <a:t>Graphical solution</a:t>
            </a:r>
            <a:endParaRPr b="0" lang="en-US" sz="4800" spc="-1" strike="noStrike">
              <a:solidFill>
                <a:srgbClr val="1c1c1c"/>
              </a:solidFill>
              <a:latin typeface="Carnivalee Freakshow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676160" y="2332080"/>
            <a:ext cx="746748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your inequality as f(x)&gt;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f(x) and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2&gt;2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&gt;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&lt;x+1&lt;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basic graph"/>
          <p:cNvPicPr/>
          <p:nvPr/>
        </p:nvPicPr>
        <p:blipFill>
          <a:blip r:embed="rId1"/>
          <a:stretch/>
        </p:blipFill>
        <p:spPr>
          <a:xfrm>
            <a:off x="5867280" y="3048120"/>
            <a:ext cx="2719440" cy="2790720"/>
          </a:xfrm>
          <a:prstGeom prst="rect">
            <a:avLst/>
          </a:prstGeom>
          <a:ln w="0">
            <a:noFill/>
          </a:ln>
        </p:spPr>
      </p:pic>
      <p:sp>
        <p:nvSpPr>
          <p:cNvPr id="464" name="SMARTPenAnnotation99"/>
          <p:cNvSpPr/>
          <p:nvPr/>
        </p:nvSpPr>
        <p:spPr>
          <a:xfrm>
            <a:off x="1782720" y="4068720"/>
            <a:ext cx="66852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MARTPenAnnotation100"/>
          <p:cNvSpPr/>
          <p:nvPr/>
        </p:nvSpPr>
        <p:spPr>
          <a:xfrm>
            <a:off x="7167600" y="3840120"/>
            <a:ext cx="112680" cy="92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MARTPenAnnotation101"/>
          <p:cNvSpPr/>
          <p:nvPr/>
        </p:nvSpPr>
        <p:spPr>
          <a:xfrm>
            <a:off x="6721560" y="3110040"/>
            <a:ext cx="1290600" cy="1439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PenAnnotation102"/>
          <p:cNvSpPr/>
          <p:nvPr/>
        </p:nvSpPr>
        <p:spPr>
          <a:xfrm>
            <a:off x="5829480" y="4503600"/>
            <a:ext cx="925200" cy="936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PenAnnotation103"/>
          <p:cNvSpPr/>
          <p:nvPr/>
        </p:nvSpPr>
        <p:spPr>
          <a:xfrm>
            <a:off x="7148520" y="4506840"/>
            <a:ext cx="98280" cy="100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PenAnnotation104"/>
          <p:cNvSpPr/>
          <p:nvPr/>
        </p:nvSpPr>
        <p:spPr>
          <a:xfrm>
            <a:off x="6700680" y="4008600"/>
            <a:ext cx="763920" cy="1427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PenAnnotation105"/>
          <p:cNvSpPr/>
          <p:nvPr/>
        </p:nvSpPr>
        <p:spPr>
          <a:xfrm>
            <a:off x="7429680" y="2903400"/>
            <a:ext cx="707760" cy="1165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PenAnnotation106"/>
          <p:cNvSpPr/>
          <p:nvPr/>
        </p:nvSpPr>
        <p:spPr>
          <a:xfrm>
            <a:off x="7647120" y="3475080"/>
            <a:ext cx="136440" cy="23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PenAnnotation107"/>
          <p:cNvSpPr/>
          <p:nvPr/>
        </p:nvSpPr>
        <p:spPr>
          <a:xfrm>
            <a:off x="7704000" y="3292560"/>
            <a:ext cx="14760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PenAnnotation108"/>
          <p:cNvSpPr/>
          <p:nvPr/>
        </p:nvSpPr>
        <p:spPr>
          <a:xfrm>
            <a:off x="7737480" y="2967120"/>
            <a:ext cx="320760" cy="565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PenAnnotation109"/>
          <p:cNvSpPr/>
          <p:nvPr/>
        </p:nvSpPr>
        <p:spPr>
          <a:xfrm>
            <a:off x="7818480" y="3017880"/>
            <a:ext cx="45720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PenAnnotation110"/>
          <p:cNvSpPr/>
          <p:nvPr/>
        </p:nvSpPr>
        <p:spPr>
          <a:xfrm>
            <a:off x="7851600" y="4971960"/>
            <a:ext cx="35280" cy="435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PenAnnotation111"/>
          <p:cNvSpPr/>
          <p:nvPr/>
        </p:nvSpPr>
        <p:spPr>
          <a:xfrm>
            <a:off x="7851600" y="4365720"/>
            <a:ext cx="24120" cy="423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PenAnnotation112"/>
          <p:cNvSpPr/>
          <p:nvPr/>
        </p:nvSpPr>
        <p:spPr>
          <a:xfrm>
            <a:off x="7840800" y="3600360"/>
            <a:ext cx="34920" cy="685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PenAnnotation113"/>
          <p:cNvSpPr/>
          <p:nvPr/>
        </p:nvSpPr>
        <p:spPr>
          <a:xfrm>
            <a:off x="7829640" y="3189240"/>
            <a:ext cx="2196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PenAnnotation114"/>
          <p:cNvSpPr/>
          <p:nvPr/>
        </p:nvSpPr>
        <p:spPr>
          <a:xfrm>
            <a:off x="7818480" y="2868480"/>
            <a:ext cx="33120" cy="25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PenAnnotation115"/>
          <p:cNvSpPr/>
          <p:nvPr/>
        </p:nvSpPr>
        <p:spPr>
          <a:xfrm>
            <a:off x="7031160" y="5622840"/>
            <a:ext cx="169920" cy="355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PenAnnotation116"/>
          <p:cNvSpPr/>
          <p:nvPr/>
        </p:nvSpPr>
        <p:spPr>
          <a:xfrm>
            <a:off x="6937200" y="5578560"/>
            <a:ext cx="331920" cy="433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PenAnnotation117"/>
          <p:cNvSpPr/>
          <p:nvPr/>
        </p:nvSpPr>
        <p:spPr>
          <a:xfrm>
            <a:off x="7257960" y="5565600"/>
            <a:ext cx="29700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PenAnnotation118"/>
          <p:cNvSpPr/>
          <p:nvPr/>
        </p:nvSpPr>
        <p:spPr>
          <a:xfrm>
            <a:off x="7624800" y="5475240"/>
            <a:ext cx="182520" cy="29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23:45:50Z</dcterms:created>
  <dc:creator>nuhs</dc:creator>
  <dc:description/>
  <dc:language>en-US</dc:language>
  <cp:lastModifiedBy>Ameena</cp:lastModifiedBy>
  <dcterms:modified xsi:type="dcterms:W3CDTF">2008-09-26T20:25:40Z</dcterms:modified>
  <cp:revision>7</cp:revision>
  <dc:subject/>
  <dc:title>2.4: linear inqualities</dc:title>
</cp:coreProperties>
</file>